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D2E-1338-4E96-97B6-57F5E0969F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C9AD-466E-4EB8-A420-E02A241E47B2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AF0-0983-40CE-8F0B-A49351FD69C2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1D6-258A-42E6-A017-5AD970E7E8D7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70D-B739-443C-97B3-FFDCF14F585E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1A1-EF10-4DF3-9E70-A5DAE106950C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EF7-3170-4701-8918-9C94375CFF9E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F83-E664-4C71-8EAB-7F72483B41D7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202-83BA-4C94-BF05-850F7018FD46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420C-8796-4C6D-A7E9-DECEBD631E80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BAE-7D7D-4429-858D-83978A6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D1-1196-4DBC-95F5-25508C9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0F2-DE81-49DD-8A58-3955F9EB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D4D-C9B0-468C-91CA-783FCF4B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590-0296-4531-A9BB-62900FF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887-B6A4-4540-8D95-DCAE5CC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675-5B7F-4686-B337-6046DCF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5ED-A831-4D84-A23B-CE8F0CE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963-7153-43F3-B16F-5EFDD95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346-DC80-45BB-8F92-DAC378E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B52-7956-4C81-ACB2-0F4626C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698-6C6E-419C-8E4D-A115977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1770-3C3B-4243-85D1-B16F5B846847}" type="slidenum">
              <a:rPr b="0" lang="en-GB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9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4"/>
          <p:cNvSpPr/>
          <p:nvPr/>
        </p:nvSpPr>
        <p:spPr>
          <a:xfrm>
            <a:off x="285840" y="214200"/>
            <a:ext cx="778644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Write your story title here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3" name="TextBox 35"/>
          <p:cNvSpPr/>
          <p:nvPr/>
        </p:nvSpPr>
        <p:spPr>
          <a:xfrm>
            <a:off x="3500280" y="6143760"/>
            <a:ext cx="542952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Story by 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4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3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6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9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2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65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88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11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34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4"/>
          <p:cNvSpPr/>
          <p:nvPr/>
        </p:nvSpPr>
        <p:spPr>
          <a:xfrm>
            <a:off x="3571920" y="6143760"/>
            <a:ext cx="250020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The End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9:18:22Z</dcterms:created>
  <dc:creator>Bev Evans</dc:creator>
  <dc:description/>
  <dc:language>en-US</dc:language>
  <cp:lastModifiedBy>Bev Evans</cp:lastModifiedBy>
  <dcterms:modified xsi:type="dcterms:W3CDTF">2010-03-07T14:08:33Z</dcterms:modified>
  <cp:revision>23</cp:revision>
  <dc:subject/>
  <dc:title>Slide 1</dc:title>
</cp:coreProperties>
</file>